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2.jpeg" ContentType="image/jpeg"/>
  <Override PartName="/ppt/media/hammer.wav" ContentType="audio/x-wav"/>
  <Override PartName="/ppt/media/image11.png" ContentType="image/png"/>
  <Override PartName="/ppt/media/image19.jpeg" ContentType="image/jpeg"/>
  <Override PartName="/ppt/media/type.wav" ContentType="audio/x-wav"/>
  <Override PartName="/ppt/media/image8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glass.wav" ContentType="audio/x-wav"/>
  <Override PartName="/ppt/media/image5.jpeg" ContentType="image/jpeg"/>
  <Override PartName="/ppt/media/image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explode.wav" ContentType="audio/x-wav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354A-EFBC-4B39-8912-7B09BC0F447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Lectu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st Lecture: 9/30/05, 2:00 pm: Definitions, Formalism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nd Lecture: 10/7/05, 2:00 pm: Ion-optical elements, properties &amp;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rd Lecture: 10/14/05, 2:00 pm: Real World Ion-optical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th Lecture: 12/2/05, 2:00 pm: Separator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th Lecture: 12/9/05, 2:00 pm: Demonstration of Codes (TRANSPORT, COSY, MagN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Lecture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er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1st Lecture: 9/30/05, 2:00 pm: Definitions, Formalism, Exam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nd Lecture: 10/7/05, 2:00 pm: Ion-optical elements, properties &amp; desig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rd Lecture: 10/14/05, 2:00 pm: Real World Ion-optical Syste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4th Lecture: 12/2/05, 2:00 pm: Separator Syste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5th Lecture: 12/9/05, 2:00 pm: Demonstration of Codes (TRANSPORT, COSY, MagNet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efining a RA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Ion-optica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element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de TRANSPORT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x, Q, y, F, 1, dp/p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1, 2,  3,  4, 5,   6   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nvenient “easy to use” program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or beam lines with paraxial beam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de: COSY Infinity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x, a, y, b, l, dK, dm, dz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eeded for complex ion-optical systems including several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harge stat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ifferent mass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elocities (e.g. Wien Filter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higher order corrections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 defined in the figure are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K = dK/K = rel. energ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m = dm/m = rel. energ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z  = dq/q = rel. charge chang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  =  px/p0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b  =  py/p0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ll parameters are rel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o “central ray” properti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 defined in the figure are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p/p = rel. momentu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 = beam pulse length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ll parameters are rel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o “central ray”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entral ra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e: Notations in the Literature is not consistent! Sorry, neither will I be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a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de TRANSPORT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, Q, y, F, 1, dp/p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, 2,  3,  4, 5,   6  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nient “easy to use” progra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beam lines with paraxial b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de: COSY Infinity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, a, y, b, l, dK, dm, dz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ed for complex ion-optical systems including sever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rge sta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ma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locities (e.g. Wien Filt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 correction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K = dK/K = rel.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m = dm/m = rel.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z  = dq/q = rel. charge 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 =  px/p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  =  py/p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“central ray” proper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p/p = rel. moment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beam puls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“central ray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al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Notations in the Literature is not consistent! Sorry, neither will I b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e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rdinate Syste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 of a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fter element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x6 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rst ord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We are not building “random” optical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atrix elements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symmetries, e.g. mid-plane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 of a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fter element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 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first ord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We are not building “random” opt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matrix elements = 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of symmetries, e.g. mid-plane symme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PORT matrices of a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ift and a Quadrup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r reference of TRANSPORT code and formalis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.L. Brown, F. Rothacker, D.C. Carey, and Ch. Isel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PORT: A computer program for desig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ged particle beam transport systems, SLAC-91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. 2, UC-28 (I/A), also: CERN 80-04 Super 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chrotron Division, 18 March 1980, Genev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ual plus Appendices available on Webpa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tp://ftp.psi.ch/psi/transport.beam/CERN-80-0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vid. C. Carey, The optics of Charged Particle Beam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87, Hardwood Academic Publ. GmbH, Chur Switzer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matrices of a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rift and a Quadr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 reference of TRANSPORT code and formalis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K.L. Brown, F. Rothacker, D.C. Carey, and Ch. Iseli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: A computer program for desig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harged particle beam transport systems, SLAC-91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v. 2, UC-28 (I/A), also: CERN 80-04 Super Pro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ynchrotron Division, 18 March 1980, Geneva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nual plus Appendices available on Webpag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tp://ftp.psi.ch/psi/transport.beam/CERN-80-04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avid. C. Carey, The optics of Charged Particle Beam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1987, Hardwood Academic Publ. GmbH, Chur Switzer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of a ray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hough a system of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eam line elemen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tion 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e.g. a targe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y at fin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tion 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6x6 Matri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present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irst optic el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usually a Drif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xn  =  Rn Rn-1 … R0 x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plete system is represented by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ne Matrix  Rsystem   =  Rn Rn-1 … R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3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of a ray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ough a system of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eam line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e.g. a targe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y at fi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ocation 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irst optic 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usually a Drif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n  =  Rn Rn-1 … R0 x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mplete system is represented b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one Matrix  Rsystem   =  Rn Rn-1 … R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ometrical interpretation of some TRANSPORT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trix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llnik, p.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cusing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x|a)         Wolln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dx/dQ      physical 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(x|Q)        RAYTR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R12          TRANS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hromatic syste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16 = R26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eometrical interpretation of some TRANSPORT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trix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ollnik, p. 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cusing Fun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x|a)         Wollni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dx/dQ      physical mea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(x|Q)        RAYTR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R12         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Achromatic system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16 = R26 =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fining a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Ellipse Area  = p(det s)1/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mittance e is constant for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xed energy &amp; conservativ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rces (Liouville’s Theore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te: e shrinks (increases) with acceleration (deceleration);  Dissipative forces: e  increases in gases; electron, stochastic, laser cool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ttention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pace charge effects occur when the particle density is high, so that particles repel each oth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arning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is is a mathematical abstraction of a beam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is your responsibility to verify it applies to your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 dimensional cut x-Q is show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 = Ö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11s22  - (s12)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```````````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mittanc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a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Ellipse Area  = p(det s)1/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is constant fo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xed energy &amp; conserv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s (Liouville’s Theore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e shrinks (increases) with acceleration (deceleration);  Dissipative forces: e  increases in gases; electron, stochastic, laser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ten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ace charge effects occur when the particle density is high, so that particles repel each o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ning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a mathematical abstraction of a beam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your responsibility to verify it applies to your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dimensional cut x-Q is sh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Ö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s22  - (s12)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`````````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of Transport of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ONE Ray Û  Ellip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ng the s Matrix representing a B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ivalenc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of Transport of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ONE Ray Û  Ellip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the s Matrix representing a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The 2-dimensional case ( x, Q 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llipse Area = p(det s)1/2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mittance e = det s is constant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for fixed energy &amp; conserv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forces (Liouville’s Theorem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Note: e shrinks (increases) with acceleration (deceleration);  Dissipative forces: e  increases in gases; electron, stochastic, laser cooling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2 dimensional cut x-Q is shown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 =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s11 s21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s21 s22 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Real, pos. defini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ymmetric s Matrix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-1 =  1/e2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s22  -s21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-s21  s11 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Inverse Matrix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s-1 =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1  0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 0  1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xercise 1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how that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= I (Unity Matrix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2-dim. Coord.vector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(point in phase space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=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T  = (x Q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x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Q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llipse in Matrix notation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T s-1 X  = 1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xercise 2: Show that Matrix notation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is equivalent to known Ellipse equation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22 x2 - 2s21 x Q + s11Q2 = e2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2-dimensional case ( x, Q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lipse Area = p(det s)1/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mittance e = det s is consta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 fixed energy &amp; conserv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ces (Liouville’s Theore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e: e shrinks (increases) with acceleration (deceleration);  Dissipative forces: e  increases in gases; electron, stochastic, laser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 dimensional cut x-Q is sh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s11 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s21 s22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al, pos. defin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ymmetric s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-1 =  1/e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s22  -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-s21  s11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nverse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s-1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1  0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 0  1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xercise 1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how that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I (Unity Matrix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-dim. Coord.ve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point in phase spac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T  = (x Q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x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Q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lipse in Matrix nota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T s-1 X 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xercise 2: Show that Matrix no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s equivalent to known Ellipse equa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22 x2 - 2s21 x Q + s11Q2 = e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rant-Snyder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æs11 s21 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ès21 s22 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ir famous “Theory of the Alternating Synchrotron” Courant and Snyder us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notation of the s Matrix Elements, that are used in the Accelerator Lit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r future venture into accelerator physics here is the relationship betwee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matrix and the betatron amplitue functions a, b, g or Courant Snyder parame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æ  b   -a 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è-a      g 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 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urant-Snyder No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æs11 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ès21 s22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ir famous “Theory of the Alternating Synchrotron” Courant and Snyder used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notation of the s Matrix Elements, that are used in the Accelerator Literatu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you r future venture into accelerator physics here is the relationship between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matrix and the betatron amplitue functions a, b, g or Courant Snyder parame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æ  b   -a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è-a      g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   e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vation, references, remarks (4 -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iving forces (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 &amp; first order formalism (10 - 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space ellipse, emittance, examples (17 - 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ylor expansion, higher orders (26 - 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wer of diagnostics (28 - 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&amp;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cture: 9/30/05, 2:00 – 3:30 pm: Definitions, Formalism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st Le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vation, references, remarks (4 - 8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riving forces 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 &amp; first order formalism (10 - 1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 space ellipse, emittance, examples (17 - 2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ylor expansion, higher orders (26 - 2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wer of diagnostics (28 - 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st Lecture: 9/30/05, 2:00 – 3:30 pm: Definitions, Formalism, Exam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ransport of 6-dim s Matri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ider the 6-dim. ray vector in TRANSPORT:                        X = (x, Q, y, F, l, dp/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ay X0 from location 0 is transported by a 6 x 6 Matrix R to location 1 by:        X1 = RX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te: R maybe a matrix representing a complex system (3) is :             R = Rn Rn-1 … R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llipsoid in Matrix notation (6), generized to e.g. 6-dim. using s Matrix:                X0 T s0-1 X0  =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serting Unity Matrix  I = RR-1  in equ. (6)   it follows     X0 T (RTRT-1) s0-1 (R-1 R) X0  =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rom which we derive            (RX0)T  (Rs0 RT)-1 (RX0)  = 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9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equation of the new ellipsoid after transformation becomes     X1 T s1-1 X1  =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ere                                         s1 =  Rs0 R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clusion: Knowing the TRANSPORT matrix R that transports one ray through an ion-optical system using  (7) we can now also transport the phase space ellipse describing the initial beam using (10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 of 6-dim s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sider the 6-dim. ray vector in TRANSPORT:                        X = (x, Q, y, F, l, dp/p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X0 from location 0 is transported by a 6 x 6 Matrix R to location 1 by:        X1 = RX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R maybe a matrix representing a complex system (3) is :             R = Rn Rn-1 … R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lipsoid in Matrix notation (6), generized to e.g. 6-dim. using s Matrix:                X0 T s0-1 X0 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erting Unity Matrix  I = RR-1  in equ. (6)   it follows     X0 T (RTRT-1) s0-1 (R-1 R) X0  =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which we derive            (RX0)T  (Rs0 RT)-1 (RX0)  = 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8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of the new ellipsoid after transformation becomes     X1 T s1-1 X1  =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                                        s1 =  Rs0 R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clusion: Knowing the TRANSPORT matrix R that transports one ray through an ion-optical system using  (7) we can now also transport the phase space ellipse describing the initial beam using (10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port of rays and phase ellip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Drift and focusing Quadrupole,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ching of emittance and accep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ansport of rays and phase ellips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Drift and focusing Quadrupole, 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ching of emittance and accep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of Emittance 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degr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grader / target increases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ttance e due to multiple scatte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mittance growth is minimal w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ader in positioned in a 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can be seen from the schem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of the horizontal x-Th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back-of-the-envelop discussion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rease of Emittance 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e to degra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egrader / target increases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due to multiple scatte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growth is minimal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egrader in positioned in a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can be seen from the schema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ing of the horizontal x-Th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 spac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back-of-the-envelop discussion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 e  measuremen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y tuning a quadrupol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ee, p. 5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e emittance e is an importa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arameter of a beam. It can be measured as shown below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(1 + s12  L/ s11 - L g) + (eL)2/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xmax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xercise 3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 the accelerato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reference book s22  is printed as s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erify which is correc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¶Bz/¶x * l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g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Quadr.  field strengt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 eff. field length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Distance between quadrupole an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eam profile monito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ake minimum 3 measurements of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xmax(g) and determine Emittance 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1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 measuremen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uning a quadr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e, p. 5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e is an import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meter of a beam. It can be measured as shown below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(1 + s12  L/ s11 - L g) + (eL)2/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max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rcise 3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acceler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erence book s22  is printed as s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ify which is corr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¶Bz/¶x * l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Quadr.  field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 eff. field length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Distance between quadrupole 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profile moni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 minimum 3 measurements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max(g) and determine Emittance 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 e  measuremen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y moving viewer metho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e emittance e can also be measured in a drift space as shown below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+ 2 L1 s12  + L1 2 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xmax(V2))2 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Distances between view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 beam profile monitor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¾½¾¾¾½¾¾¾¾½¾®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1            L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iewer  V1         V2             V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ea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xmax(V3))2 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+ 2 (L1 + L2)s12  + (L1 + L2 )2 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here s11 = (xmax(V1))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= Ö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```````````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s22  - (s12)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practical aspec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No ellipse no e? Phase space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3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4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 measuremen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moving viewer meth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e can also be measured in a drift space as shown below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+ 2 L1 s12  + L1 2 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max(V2))2 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Distances between vie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 beam profile moni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¾½¾¾¾½¾¾¾¾½¾®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1            L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ewer  V1         V2             V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max(V3))2 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+ 2 (L1 + L2)s12  + (L1 + L2 )2 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s11 = (xmax(V1))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Ö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`````````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s22  - (s12)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cuss practical asp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ellipse no e? Phase spac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aylor expans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(1st order)TRANSPORT Matrix Rn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,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ote: Several notations are in use for 6 dim. ray vector &amp; matrix ele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mark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idplane symmetry of magne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ason for many matrix element = 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approx. for “well” designed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agnets and paraxial beam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code calculates 2nd or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y including Tmno elements explicit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formalism is not suitab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o calculate higher order ( &gt;2 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   RAYTRA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ot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nm    =      (n|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1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aylor expan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(1st order)TRANSPORT Matrix Rn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,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e: Several notations are in use for 6 dim. ray vector &amp; matrix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mark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idplane symmetry of magne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ason for many matrix element =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approx. for “well” design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gnets and paraxial bea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code calculates 2nd or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y including Tmno elements explicit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formalism is not sui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o calculate higher order ( &gt;2 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   RAYTR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nm    =      (n|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1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the equ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of solving the equation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Determine the TRANSPORT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Code RAYTRACE slices the system in small sections along the z-axis and integrates numerically the particle ray through the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Code COSY Infinity uses Differential Algebraic techniques to arbitrary orders using matrix representation for fast calc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ing the equation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ods of solving the equation of motio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) Determine the TRANSPORT matrix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) Code RAYTRACE slices the system in small sections along the z-axis and integrates numerically the particle ray through the syste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) Code COSY Infinity uses Differential Algebraic techniques to arbitrary orders using matrix representation for fast calcul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cussion of Diagnostic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nge  &lt; 1  to  &gt; 1012 particles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terference with beam, notably at low energ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st can be very hi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gnal may not represent beam properties (e.g. blind viewer sp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solu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iewers, scintillators, quartz with CCD read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ts (movable) Faraday cups (current readou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rps, electronic readout, semi- transpa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lm (permanent record, dosimetry, e.g. in Proton Therap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re chambers (Spectrome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int beam 1012 ® 103  (Cyclotrons: MSU, RCNP, iThemb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iscussion of Diagnostic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ome problem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nge  &lt; 1  to  &gt; 1012 particles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nterference with beam, notably at low energi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st can be very hig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ignal may not represent beam properties (e.g. blind viewer spo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ome solu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Viewers, scintillators, quartz with CCD read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lits (movable) Faraday cups (current readou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arps, electronic readout, semi- trans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ilm (permanent record, dosimetry, e.g. in Proton Therap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ire chambers (Spectromet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aint beam 1012 ® 103  (Cyclotrons: MSU, RCNP, iThemb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iagnostics in focal plan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f spectrome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ypical in focal plane of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dern Spectrometer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wo position sensitiv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tectors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orizontal:  X1,  X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ertical:      Y1,  Y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ast plastic scintillator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article identific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ime-of-Flig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easurement with IUCF K6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pectrometer illustrates from to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 bottom: focus near, down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ream and upstream of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1 detector, respective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UCF, K600 Spectrome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agnostics in focal plan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spectr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ical in focal plane of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dern Spectrometer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position sensi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ector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rizontal:  X1,  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tical:      Y1,  Y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st plastic scintillator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 identif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-of-F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with IUCF K6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trometer illustrates from t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ottom: focus near, down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am and upstream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1 detector, respectiv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UCF, K600 Spectr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order beam aber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or X1      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rays in focal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ctup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-shape in x-Q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xtupole T1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-shape in x-Q p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12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1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 beam aber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ector X1      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rays in focal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ct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S-shape in x-Q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xtupole T1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-shape in x-Q plo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12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1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ipulate charged particles (b+/-, ions, like p,d,a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lines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&amp; electric analysis/ separation (e.g. St. Geor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of ion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e charged particles (b+/-, ions, like p,d,a, …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lines 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etic &amp; electric analysis/ separation (e.g. St. Georg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 of ions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needs ion-optic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6*109  people have  - I hope so - happy lives with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accelerator physicists are using it to build mach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enables physicists to explore the unk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physicists using accelerators, beam lines and magne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r their data) needs some knowledge of ion-optic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cture series is an introduction to the last group and I will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est to let you in on the basics first and than we will discu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of the applications of ion-optics and related top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needs ion-optic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yway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ver 6*109  people have  - I hope so - happy lives withou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oup of accelerator physicists are using it to build machin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at enables physicists to explore the unkow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physicists using accelerators, beam lines and magne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their data) needs some knowledge of ion-optic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lecture series is an introduction to the last group and I will d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 best to let you in on the basics first and than we will discus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of the applications of ion-optics and related top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roductory remark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roduction for physicists  Focus on ion-optical definitions, and tools tha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re useful for physicist at the NSL &amp; future users of St. George recoil separato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ight optics can hardly be discussed without lenses &amp; optical instrument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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on-optics requires knowledge of ion-optical ele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nalogy between Light Optics and Ion-Optics is useful but limite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on-optical &amp; magnet design tools needed to understand electro-magnet systems.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Ion-optics is not even 100 years old and (still) less intuitive than optics developed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nce several hundred yea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alile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lescope 1609 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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ptics in Siderus Nuncius 161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istorical remarks:   Rutherford, 1911, discovery of atomic nucl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ory rema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 for physicists  Focus on ion-optical definitions, and tools tha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e useful for physicist at the NSL &amp; future users of St. George recoil separ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optics can hardly be discussed without lenses &amp; optical instrumen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s requires knowledge of ion-opt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logy between Light Optics and Ion-Optics is useful but limit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al &amp; magnet design tools needed to understand electro-magnet systems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Ion-optics is not even 100 years old and (still) less intuitive than optics develop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several hundred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escope 1609 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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s in Siderus Nuncius 16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ical remarks:   Rutherford, 1911, discovery of atomic nucle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asic tools of the trad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Geometry, drawing tools, CAD drafting program (e.g. AutoCad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Algebra (Matrix calculations), first order ion-optics (e.g. TRANSPOR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igher order ion-optics code to solve equation of motion, (e.g. COSY Infinity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GIOS, RAYTRACE (historic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Electro-magnetic field program (solution of  Maxwell’s Equations)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e.g. finite element (FE) codes, 2d &amp; 3d: POISSON, TOSCA, MagNe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roperties of incoming charged particles and design function of electro-magneti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acility, beam, reaction products (e.g. kinematic codes, charge distributions of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eavy ions, energy losses in targe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any other specialized programs, e.g for accelerator design (e.g. synchrotrons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yclotrons) not covered in this lecure series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asic tools of the tra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eometry, drawing tools, CAD drafting program (e.g. AutoCa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Algebra (Matrix calculations), first order ion-optics (e.g. TRANSPOR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igher order ion-optics code to solve equation of motion, (e.g. COSY Infinity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IOS, RAYTRACE (histori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ectro-magnetic field program (solution of  Maxwell’s Equations)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e.g. finite element (FE) codes, 2d &amp; 3d: POISSON, TOSCA, MagNe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Properties of incoming charged particles and design function of electro-magne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acility, beam, reaction products (e.g. kinematic codes, charge distributions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eavy ions, energy losses in targe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ny other specialized programs, e.g for accelerator design (e.g. synchrotron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yclotrons) not covered in this lecure seri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teratur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ptics of Charged Particles, Hermann Wollnik, Academic Press, Orlando, 198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he Optics of Charged Particle Beams, David.C Carey, Harwood Academic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lishers, New York 198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Accelerator Physics, S.Y. Lee, World Scientific Publishing, Singapore, 199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, A Computer Program for Designing Charged Particle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Systems, K.L. Brown, D.C. Carey, Ch. Iselin, F. Rotacker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port CERN 80-04, Geneva, 198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puter-Aided Design in Magnetics, D.A. Lowther, P. Silvester, Springer 1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terat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Optics of Charged Particles, Hermann Wollnik, Academic Press, Orlando, 19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Optics of Charged Particle Beams, David.C Carey, Harwood Academ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Publishers, New York 19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Accelerator Physics, S.Y. Lee, World Scientific Publishing, Singapore, 19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, A Computer Program for Designing Charged Particle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Systems, K.L. Brown, D.C. Carey, Ch. Iselin, F. Rotacker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port CERN 80-04, Geneva, 198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mputer-Aided Design in Magnetics, D.A. Lowther, P. Silvester, Springer 198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ons in static or quasi-static electro-magnetic field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Lorentz Forc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q = electric charg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B = magn. induction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 = electric fiel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v = velocit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momentum analysis  the magnetic force is preferred because the force is always perpendicular to B. Therefore v, p and E are constant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ce in magnetic dipole B = const: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  p = q B 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   = mv = momentu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= bending radiu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Br = magn. rigidit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ion acceleration electric forces are used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ipole field B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erpendicula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o paper plan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Radius 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Object (size x0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General rule: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caling of magnetic syste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n the linear region result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n the same ion-optic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Note: Dispersion dx/dp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sed in magnetic analysis,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.g. Spectrometers, magn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eparators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+d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s in static or quasi-static electro-magnetic fiel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rentz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 = electric char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 = magn. i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electric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velo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momentum analysis  the magnetic force is preferred because the force is always perpendicular to B. Therefore v, p and E are consta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 in magnetic dipole B = const: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p = q B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  = mv = moment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bending radi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 = magn. rigid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ion acceleration electric forces are us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pole field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pendicul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paper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us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 (size x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rul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ing of magnetic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linear region resul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same ion-op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Dispersion dx/d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in magnetic analysi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 Spectrometers, mag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parator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+d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 of BEAM for mathematical formulation of ion-op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eam, what shapes i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its properti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parameters, the long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rays and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line elements, paraxial lin. appr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orders in spectrome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 of diagnostic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o forget: Atomic charge Q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particles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 of BEAM for mathematical formulation of ion-op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a beam, what shapes it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o we know its properties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parameters, the long li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rays and distrib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line elements, paraxial lin. approx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s in spectrome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ystem of diagnostic instru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to forget: Atomic charge Q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mber of particles 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83F5-7701-414F-9EB8-A6E7B53E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753-3B3F-48E3-9100-EC418768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FE4-233F-4F80-88AD-736EA303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F97A-F3F9-4428-A537-9B30F285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B3BC-C2BE-49CD-BA56-CE82668C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0B0F-2E7C-4E21-B78B-C22D9520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CBF1-9EFD-452A-BAB1-991A333D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F2F6-A25C-48C3-9F77-B5B5C2D6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7DEC-1E27-49FD-BB97-AF4EC9B5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E65B-A44F-42F3-BC17-22EBF7B9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F0EB-7364-48A4-81A3-3609FBD2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44A8-780F-4BE2-95D5-D9F24577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1790-7423-4FAD-9235-F39CD427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CCCC-6E1C-43E1-BEE5-EA749817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50EC-6705-4A51-9546-24BBBA17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F42E-1E73-42C1-86E1-676DFB82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835A-5BEE-47B3-8A5C-32404EDF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D26-A275-4D25-9601-7FC80373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4C6-A368-429A-B33A-E7F6FEEE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EBA7-7977-4CBF-B48E-13097567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CFE7-18F3-41C3-BAC1-52B941F6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E18F-3C73-4501-A286-3FE98F1E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4AEA-7CDE-4C70-B1E8-96D82271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5B01-577B-4484-8E2B-776BC76B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D2DD-7B45-4AFB-A993-B96B893E0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C2A0-EEFE-4B5C-9E61-D0931F1004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glass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76920" y="228240"/>
            <a:ext cx="40384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Lecture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Rectangle 1028"/>
          <p:cNvSpPr/>
          <p:nvPr/>
        </p:nvSpPr>
        <p:spPr>
          <a:xfrm>
            <a:off x="0" y="2819520"/>
            <a:ext cx="6705720" cy="457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9/30/05, 2:00 pm: Definitions, Formalism, Exam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029"/>
          <p:cNvSpPr/>
          <p:nvPr/>
        </p:nvSpPr>
        <p:spPr>
          <a:xfrm>
            <a:off x="0" y="3352680"/>
            <a:ext cx="7467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0/7/05, 2:00 pm: Ion-optical elements, properties &amp; desig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030"/>
          <p:cNvSpPr/>
          <p:nvPr/>
        </p:nvSpPr>
        <p:spPr>
          <a:xfrm>
            <a:off x="-152280" y="3962520"/>
            <a:ext cx="6933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0/14/05, 2:00 pm: Real World Ion-optical Syste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1031"/>
          <p:cNvSpPr/>
          <p:nvPr/>
        </p:nvSpPr>
        <p:spPr>
          <a:xfrm>
            <a:off x="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2/2/05, 2:00 pm: Separator Syste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1032"/>
          <p:cNvSpPr/>
          <p:nvPr/>
        </p:nvSpPr>
        <p:spPr>
          <a:xfrm>
            <a:off x="-152280" y="5486400"/>
            <a:ext cx="9448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5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2/9/05, 2:00 pm: Demonstration of Codes (TRANSPORT, COSY, MagNe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86200" y="7596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Defining a RAY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7" name="Picture 3" descr="Beam_parametrization_d"/>
          <p:cNvPicPr/>
          <p:nvPr/>
        </p:nvPicPr>
        <p:blipFill>
          <a:blip r:embed="rId1"/>
          <a:stretch/>
        </p:blipFill>
        <p:spPr>
          <a:xfrm>
            <a:off x="3429000" y="914400"/>
            <a:ext cx="5791320" cy="2441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5640120" y="1295280"/>
            <a:ext cx="131148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-opti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-3600" y="0"/>
            <a:ext cx="339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de TRANSPOR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x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,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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p/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1, 2,  3,  4, 5,   6  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venient “easy to use” progra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beam lines with paraxial bea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-5760" y="3733920"/>
            <a:ext cx="5574240" cy="2396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: COSY Infin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,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, b, l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ed for complex ion-optical systems including sever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ge st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m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ocities (e.g. Wien Fil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order correctio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019920" y="3429000"/>
            <a:ext cx="2819160" cy="2496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defined in the figure a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K/K = rel. ener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m/m = rel. ener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z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q/q = rel. charge 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 =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 =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parameters are rel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“central ray” proper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7200" y="1676520"/>
            <a:ext cx="2541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p/p = rel. moment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 = beam pulse leng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 “central ray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495320" y="198108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tral r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69640" y="6338880"/>
            <a:ext cx="77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e: Notations in the Literature is not consistent! Sorry, neither will I b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3200400" y="5715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 rot="16200000">
            <a:off x="34923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 rot="5400000">
            <a:off x="2270520" y="168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81480" y="1066680"/>
            <a:ext cx="38102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RANSPORT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ordinate System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62520" y="1519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nsport of a r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3" name="Picture 1027" descr="Backup_of_Tailor_matrix_b"/>
          <p:cNvPicPr/>
          <p:nvPr/>
        </p:nvPicPr>
        <p:blipFill>
          <a:blip r:embed="rId1"/>
          <a:stretch/>
        </p:blipFill>
        <p:spPr>
          <a:xfrm>
            <a:off x="304920" y="2209680"/>
            <a:ext cx="4800600" cy="3029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028"/>
          <p:cNvSpPr/>
          <p:nvPr/>
        </p:nvSpPr>
        <p:spPr>
          <a:xfrm>
            <a:off x="3200400" y="5715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029"/>
          <p:cNvSpPr/>
          <p:nvPr/>
        </p:nvSpPr>
        <p:spPr>
          <a:xfrm>
            <a:off x="533520" y="57150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fter element 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030"/>
          <p:cNvSpPr/>
          <p:nvPr/>
        </p:nvSpPr>
        <p:spPr>
          <a:xfrm rot="16200000">
            <a:off x="7491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031"/>
          <p:cNvSpPr/>
          <p:nvPr/>
        </p:nvSpPr>
        <p:spPr>
          <a:xfrm rot="16200000">
            <a:off x="34923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032"/>
          <p:cNvSpPr/>
          <p:nvPr/>
        </p:nvSpPr>
        <p:spPr>
          <a:xfrm>
            <a:off x="1833480" y="609480"/>
            <a:ext cx="127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ptic el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first ord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033"/>
          <p:cNvSpPr/>
          <p:nvPr/>
        </p:nvSpPr>
        <p:spPr>
          <a:xfrm rot="5400000">
            <a:off x="2270520" y="168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034"/>
          <p:cNvSpPr/>
          <p:nvPr/>
        </p:nvSpPr>
        <p:spPr>
          <a:xfrm>
            <a:off x="5181480" y="5257800"/>
            <a:ext cx="2819520" cy="1465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We are not building “random” optical ele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matrix elements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 of symmetries, e.g. mid-plane symmet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036"/>
          <p:cNvSpPr/>
          <p:nvPr/>
        </p:nvSpPr>
        <p:spPr>
          <a:xfrm>
            <a:off x="43434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23920" y="304920"/>
            <a:ext cx="403884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TRANSPORT matrices of a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rift and a Quadrupol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4" name="Picture 3" descr="Matrix_drift_quad"/>
          <p:cNvPicPr/>
          <p:nvPr/>
        </p:nvPicPr>
        <p:blipFill>
          <a:blip r:embed="rId1"/>
          <a:stretch/>
        </p:blipFill>
        <p:spPr>
          <a:xfrm>
            <a:off x="-152280" y="6480"/>
            <a:ext cx="4344840" cy="68515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4257000" y="4392720"/>
            <a:ext cx="414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reference of TRANSPORT code and formalis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.L. Brown, F. Rothacker, D.C. Carey, and Ch. Iseli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: A computer program for desig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ged particle beam transport systems, SLAC-91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. 2, UC-28 (I/A), also: CERN 80-04 Super Pro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chrotron Division, 18 March 1980, Geneva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ual plus Appendices available on Webpag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tp://ftp.psi.ch/psi/transport.beam/CERN-80-04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vid. C. Carey, The optics of Charged Particle Beam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7, Hardwood Academic Publ. GmbH, Chur Switzer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24280" y="-360"/>
            <a:ext cx="4572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ransport of a ray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hough a system of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beam line elemen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Text Box 1028"/>
          <p:cNvSpPr/>
          <p:nvPr/>
        </p:nvSpPr>
        <p:spPr>
          <a:xfrm>
            <a:off x="3048120" y="35812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e.g. a targ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029"/>
          <p:cNvSpPr/>
          <p:nvPr/>
        </p:nvSpPr>
        <p:spPr>
          <a:xfrm>
            <a:off x="533520" y="37339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fi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030"/>
          <p:cNvSpPr/>
          <p:nvPr/>
        </p:nvSpPr>
        <p:spPr>
          <a:xfrm rot="16200000">
            <a:off x="825120" y="3287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1031"/>
          <p:cNvSpPr/>
          <p:nvPr/>
        </p:nvSpPr>
        <p:spPr>
          <a:xfrm rot="16200000">
            <a:off x="3416040" y="3135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1032"/>
          <p:cNvSpPr/>
          <p:nvPr/>
        </p:nvSpPr>
        <p:spPr>
          <a:xfrm>
            <a:off x="2362320" y="1066680"/>
            <a:ext cx="175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rst optic el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usually a Drif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033"/>
          <p:cNvSpPr/>
          <p:nvPr/>
        </p:nvSpPr>
        <p:spPr>
          <a:xfrm rot="5400000">
            <a:off x="2956320" y="2221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1035"/>
          <p:cNvSpPr/>
          <p:nvPr/>
        </p:nvSpPr>
        <p:spPr>
          <a:xfrm>
            <a:off x="883800" y="2666880"/>
            <a:ext cx="2846880" cy="482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036"/>
          <p:cNvSpPr/>
          <p:nvPr/>
        </p:nvSpPr>
        <p:spPr>
          <a:xfrm>
            <a:off x="974880" y="4689360"/>
            <a:ext cx="4566960" cy="899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system is represented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rix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system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039"/>
          <p:cNvSpPr/>
          <p:nvPr/>
        </p:nvSpPr>
        <p:spPr>
          <a:xfrm>
            <a:off x="411480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041"/>
          <p:cNvSpPr/>
          <p:nvPr/>
        </p:nvSpPr>
        <p:spPr>
          <a:xfrm>
            <a:off x="60958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76920" y="228600"/>
            <a:ext cx="403848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Geometrical interpretation of some TRANSPORT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matrix element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40640" y="171468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llnik, p. 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-152280" y="0"/>
            <a:ext cx="488304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3124080" y="5410080"/>
            <a:ext cx="6019920" cy="1312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7"/>
          <p:cNvSpPr/>
          <p:nvPr/>
        </p:nvSpPr>
        <p:spPr>
          <a:xfrm>
            <a:off x="4876920" y="3429000"/>
            <a:ext cx="312408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cusing Fun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x|a)         Wolln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dx/d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physical mea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(x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       RAYTR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TRANS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6857280" y="1828800"/>
            <a:ext cx="2078280" cy="6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hromatic syst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26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52280" y="60948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Defining a BEA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5723640" y="149400"/>
            <a:ext cx="30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Ellipse Area 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t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716440" y="2209680"/>
            <a:ext cx="273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constant fo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xed energy &amp; conserv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ces (Liouville’s Theore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5715000" y="312408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hrinks (increases) with acceleration (deceleration);  Dissipative forces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creases in gases; electron, stochastic, laser coo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52280" y="5410080"/>
            <a:ext cx="7539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tten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ce charge effects occur when the particle density is high, so that particles repel each 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294480" y="3962520"/>
            <a:ext cx="702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Warning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a mathematical abstraction of a beam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your responsibility to verify it applies to your b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2671560" y="3200400"/>
            <a:ext cx="27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2 dimensional cut x-</a:t>
            </a:r>
            <a:r>
              <a:rPr b="0" lang="en-US" sz="16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 is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5486400" y="12952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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6229800" y="1371600"/>
            <a:ext cx="206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6172200" y="1295280"/>
            <a:ext cx="20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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6477480" y="76212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itta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845820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68580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quivalenc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of Transport of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ONE Ray </a:t>
            </a:r>
            <a:r>
              <a:rPr b="0" lang="en-US" sz="4400" spc="-1" strike="noStrike">
                <a:solidFill>
                  <a:srgbClr val="ffcc66"/>
                </a:solidFill>
                <a:latin typeface="Symbol"/>
                <a:ea typeface="Symbol"/>
              </a:rPr>
              <a:t>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llipse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8600" y="51055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efining the 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Matrix representing a B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0"/>
          <p:cNvSpPr/>
          <p:nvPr/>
        </p:nvSpPr>
        <p:spPr>
          <a:xfrm>
            <a:off x="73080" y="5943600"/>
            <a:ext cx="496584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2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52280" y="91440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he 2-dimensional case ( x,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5961240" y="225360"/>
            <a:ext cx="23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lipse Area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/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946480" y="685800"/>
            <a:ext cx="302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de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consta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fixed energy &amp; conserv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ces (Liouville’s Theore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43600" y="1587600"/>
            <a:ext cx="32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hrinks (increases) with acceleration (deceleration);  Dissipative forces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creases in gases; electron, stochastic, laser coo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595240" y="3505320"/>
            <a:ext cx="27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2 dimensional cut x-</a:t>
            </a:r>
            <a:r>
              <a:rPr b="0" lang="en-US" sz="16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 is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9960" y="4191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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87520" y="4038480"/>
            <a:ext cx="170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2131920" y="408780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l, pos. defin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mmetric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2520" y="51814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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1343880" y="5029200"/>
            <a:ext cx="1957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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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3048480" y="52545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verse Matr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1139400" y="6095880"/>
            <a:ext cx="12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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1971360" y="5943600"/>
            <a:ext cx="1437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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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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76320" y="5791320"/>
            <a:ext cx="1206360" cy="73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rcise 1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3048120" y="609588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nity Matrix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6018840" y="304812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-dim. Coord.ve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point in phase spa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5716800" y="388620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7407000" y="3886200"/>
            <a:ext cx="15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(x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6219000" y="3733920"/>
            <a:ext cx="10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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5481720" y="4572000"/>
            <a:ext cx="29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lipse in Matrix nota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5059080" y="5738760"/>
            <a:ext cx="4146840" cy="1027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rcise 2: Show that Matrix nota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equivalent to known Ellipse equation: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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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8305920" y="4952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3886200" y="396540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ourant-Snyder Notatio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95436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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59120" y="2590920"/>
            <a:ext cx="170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581040" y="723960"/>
            <a:ext cx="8202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their famous “Theory of the Alternating Synchrotron” Courant and Snyder used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ferent notation of th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Matrix Elements, that are used in the Accelerator Liter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you r future venture into accelerator physics here is the relationship between 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rix and the betatron amplitue function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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or Courant Snyder parame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4022280" y="2590920"/>
            <a:ext cx="2052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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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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28"/>
          <p:cNvSpPr/>
          <p:nvPr/>
        </p:nvSpPr>
        <p:spPr>
          <a:xfrm>
            <a:off x="3317040" y="27432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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2520" y="228600"/>
            <a:ext cx="3962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Lec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6720" y="3657600"/>
            <a:ext cx="647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tivation, references, remarks (4 - 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riving forces (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tions &amp; first order formalism (10 - 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se space ellipse, emittance, examples (17 - 2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ylor expansion, higher orders (26 - 2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ower of diagnostics (28 - 3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28954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9/30/05, 2:00 – 3:30 pm: Definitions, Formalism, Exam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ransport of 6-dim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atrix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9" name="Text Box 26"/>
          <p:cNvSpPr/>
          <p:nvPr/>
        </p:nvSpPr>
        <p:spPr>
          <a:xfrm>
            <a:off x="51480" y="838080"/>
            <a:ext cx="84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sider the 6-dim. ray vector in TRANSPORT:                        X = (x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,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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, dp/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27"/>
          <p:cNvSpPr/>
          <p:nvPr/>
        </p:nvSpPr>
        <p:spPr>
          <a:xfrm>
            <a:off x="152280" y="1295280"/>
            <a:ext cx="899172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ay 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from location 0 is transported by a 6 x 6 Matrix R to location 1 by:        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R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752480"/>
            <a:ext cx="876312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: R maybe a matrix representing a complex system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3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is :             R 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n-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…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29"/>
          <p:cNvSpPr/>
          <p:nvPr/>
        </p:nvSpPr>
        <p:spPr>
          <a:xfrm>
            <a:off x="152280" y="2286000"/>
            <a:ext cx="8534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llipsoid in Matrix notation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6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generized to e.g. 6-dim. using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Matrix:           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30"/>
          <p:cNvSpPr/>
          <p:nvPr/>
        </p:nvSpPr>
        <p:spPr>
          <a:xfrm>
            <a:off x="152280" y="2895480"/>
            <a:ext cx="83059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serting Unity Matrix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= R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equ.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6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it follows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-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-1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)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rom which we derive            (R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R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  = 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85345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2"/>
          <p:cNvSpPr/>
          <p:nvPr/>
        </p:nvSpPr>
        <p:spPr>
          <a:xfrm>
            <a:off x="84582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34"/>
          <p:cNvSpPr/>
          <p:nvPr/>
        </p:nvSpPr>
        <p:spPr>
          <a:xfrm>
            <a:off x="845820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228600" y="3809880"/>
            <a:ext cx="8305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quation of the 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new ellipsoid after transforma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ecom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here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 R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36"/>
          <p:cNvSpPr/>
          <p:nvPr/>
        </p:nvSpPr>
        <p:spPr>
          <a:xfrm>
            <a:off x="83059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37"/>
          <p:cNvSpPr/>
          <p:nvPr/>
        </p:nvSpPr>
        <p:spPr>
          <a:xfrm>
            <a:off x="84582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38"/>
          <p:cNvSpPr/>
          <p:nvPr/>
        </p:nvSpPr>
        <p:spPr>
          <a:xfrm>
            <a:off x="152280" y="5029200"/>
            <a:ext cx="8839440" cy="1678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: Knowing the TRANSPORT matrix R that transports one ray through an ion-optical system us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7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now also transport the phase space ellipse describing the initial beam us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10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ansport of rays and phase ellipses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in a Drift and focusing Quadrupole, Lens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73" name="Picture 3" descr="Ellipse_ray-a"/>
          <p:cNvPicPr/>
          <p:nvPr/>
        </p:nvPicPr>
        <p:blipFill>
          <a:blip r:embed="rId1"/>
          <a:stretch/>
        </p:blipFill>
        <p:spPr>
          <a:xfrm>
            <a:off x="-152280" y="1541520"/>
            <a:ext cx="6095880" cy="5316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Ellipse_ray_b"/>
          <p:cNvPicPr/>
          <p:nvPr/>
        </p:nvPicPr>
        <p:blipFill>
          <a:blip r:embed="rId2"/>
          <a:stretch/>
        </p:blipFill>
        <p:spPr>
          <a:xfrm>
            <a:off x="5599080" y="1523880"/>
            <a:ext cx="3544920" cy="1447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Ellipse_ray_c"/>
          <p:cNvPicPr/>
          <p:nvPr/>
        </p:nvPicPr>
        <p:blipFill>
          <a:blip r:embed="rId3"/>
          <a:stretch/>
        </p:blipFill>
        <p:spPr>
          <a:xfrm>
            <a:off x="5943600" y="2971800"/>
            <a:ext cx="3200400" cy="190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Ellipse_ray_d"/>
          <p:cNvPicPr/>
          <p:nvPr/>
        </p:nvPicPr>
        <p:blipFill>
          <a:blip r:embed="rId4"/>
          <a:stretch/>
        </p:blipFill>
        <p:spPr>
          <a:xfrm>
            <a:off x="594360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7"/>
          <p:cNvSpPr/>
          <p:nvPr/>
        </p:nvSpPr>
        <p:spPr>
          <a:xfrm>
            <a:off x="914400" y="3657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4648320" y="3733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2136240" y="6324480"/>
            <a:ext cx="365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tching of emittance and accept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1143360" y="3581280"/>
            <a:ext cx="662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ns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5029560" y="3657600"/>
            <a:ext cx="662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ns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5564520" y="28195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82680" y="3505320"/>
            <a:ext cx="726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4120" y="152280"/>
            <a:ext cx="3504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Increase of Emittance </a:t>
            </a:r>
            <a:r>
              <a:rPr b="0" lang="en-US" sz="2400" spc="-1" strike="noStrike">
                <a:solidFill>
                  <a:srgbClr val="ffcc66"/>
                </a:solidFill>
                <a:latin typeface="UniversalMath1 BT"/>
                <a:ea typeface="UniversalMath1 BT"/>
              </a:rPr>
              <a:t>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ue to degrader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86" name="Picture 3" descr="Ellipse_increase"/>
          <p:cNvPicPr/>
          <p:nvPr/>
        </p:nvPicPr>
        <p:blipFill>
          <a:blip r:embed="rId1"/>
          <a:stretch/>
        </p:blipFill>
        <p:spPr>
          <a:xfrm>
            <a:off x="0" y="1143000"/>
            <a:ext cx="5483160" cy="5867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4"/>
          <p:cNvSpPr/>
          <p:nvPr/>
        </p:nvSpPr>
        <p:spPr>
          <a:xfrm>
            <a:off x="1678320" y="1295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5507640" y="2286000"/>
            <a:ext cx="36342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degrader / target increases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800" spc="-1" strike="noStrike">
                <a:solidFill>
                  <a:srgbClr val="ffffff"/>
                </a:solidFill>
                <a:latin typeface="UniversalMath1 BT"/>
                <a:ea typeface="UniversalMath1 BT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e to multiple scatterin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mittance growth is minimal w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degrader in positioned in a foc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 can be seen from the schema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ing of the horizontal x-Th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hase spac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5663880" y="1143000"/>
            <a:ext cx="35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back-of-the-envelop discussion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28840" y="15192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mittance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 measurement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y tuning a quadrupol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2" name="Text Box 1027"/>
          <p:cNvSpPr/>
          <p:nvPr/>
        </p:nvSpPr>
        <p:spPr>
          <a:xfrm>
            <a:off x="687960" y="11430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e, p. 5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1028"/>
          <p:cNvSpPr/>
          <p:nvPr/>
        </p:nvSpPr>
        <p:spPr>
          <a:xfrm>
            <a:off x="5943600" y="1143000"/>
            <a:ext cx="3200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mittanc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is an import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ameter of a beam. It can be measured as shown below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1029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-152280" y="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030"/>
          <p:cNvSpPr/>
          <p:nvPr/>
        </p:nvSpPr>
        <p:spPr>
          <a:xfrm>
            <a:off x="1216440" y="3124080"/>
            <a:ext cx="543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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/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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g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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1031"/>
          <p:cNvSpPr/>
          <p:nvPr/>
        </p:nvSpPr>
        <p:spPr>
          <a:xfrm>
            <a:off x="485640" y="3200400"/>
            <a:ext cx="8524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032"/>
          <p:cNvSpPr/>
          <p:nvPr/>
        </p:nvSpPr>
        <p:spPr>
          <a:xfrm>
            <a:off x="6248520" y="4343400"/>
            <a:ext cx="2743200" cy="22996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3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accele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boo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printed 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000000"/>
                </a:solidFill>
                <a:latin typeface="Symbol"/>
                <a:ea typeface="Symbol"/>
              </a:rPr>
              <a:t>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ify which is cor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1033"/>
          <p:cNvSpPr/>
          <p:nvPr/>
        </p:nvSpPr>
        <p:spPr>
          <a:xfrm>
            <a:off x="1143000" y="3809880"/>
            <a:ext cx="20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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z/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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x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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1034"/>
          <p:cNvSpPr/>
          <p:nvPr/>
        </p:nvSpPr>
        <p:spPr>
          <a:xfrm>
            <a:off x="382320" y="396252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035"/>
          <p:cNvSpPr/>
          <p:nvPr/>
        </p:nvSpPr>
        <p:spPr>
          <a:xfrm>
            <a:off x="3042720" y="3886200"/>
            <a:ext cx="246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adr.  field str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 eff. field leng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036"/>
          <p:cNvSpPr/>
          <p:nvPr/>
        </p:nvSpPr>
        <p:spPr>
          <a:xfrm>
            <a:off x="453960" y="4800600"/>
            <a:ext cx="48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= Distance between quadrupole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am profile moni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037"/>
          <p:cNvSpPr/>
          <p:nvPr/>
        </p:nvSpPr>
        <p:spPr>
          <a:xfrm>
            <a:off x="470520" y="5715000"/>
            <a:ext cx="4515120" cy="86076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minimum 3 measurements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 and determine Emit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1038"/>
          <p:cNvSpPr/>
          <p:nvPr/>
        </p:nvSpPr>
        <p:spPr>
          <a:xfrm>
            <a:off x="64008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1039"/>
          <p:cNvSpPr/>
          <p:nvPr/>
        </p:nvSpPr>
        <p:spPr>
          <a:xfrm>
            <a:off x="5562720" y="3962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28840" y="15192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mittance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 measurement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y moving viewer metho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7" name="Text Box 1028"/>
          <p:cNvSpPr/>
          <p:nvPr/>
        </p:nvSpPr>
        <p:spPr>
          <a:xfrm>
            <a:off x="6248520" y="1143000"/>
            <a:ext cx="27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mittanc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an also be measured in a drift space as shown below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1030"/>
          <p:cNvSpPr/>
          <p:nvPr/>
        </p:nvSpPr>
        <p:spPr>
          <a:xfrm>
            <a:off x="1649520" y="3429000"/>
            <a:ext cx="380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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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031"/>
          <p:cNvSpPr/>
          <p:nvPr/>
        </p:nvSpPr>
        <p:spPr>
          <a:xfrm>
            <a:off x="264600" y="3505320"/>
            <a:ext cx="16725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2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1036"/>
          <p:cNvSpPr/>
          <p:nvPr/>
        </p:nvSpPr>
        <p:spPr>
          <a:xfrm>
            <a:off x="302760" y="2133720"/>
            <a:ext cx="39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= Distances between view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 beam profile monito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1038"/>
          <p:cNvSpPr/>
          <p:nvPr/>
        </p:nvSpPr>
        <p:spPr>
          <a:xfrm>
            <a:off x="685800" y="1066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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1039"/>
          <p:cNvSpPr/>
          <p:nvPr/>
        </p:nvSpPr>
        <p:spPr>
          <a:xfrm>
            <a:off x="1614960" y="1523880"/>
            <a:ext cx="1720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1040"/>
          <p:cNvSpPr/>
          <p:nvPr/>
        </p:nvSpPr>
        <p:spPr>
          <a:xfrm>
            <a:off x="155520" y="53352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e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1         V2             V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1041"/>
          <p:cNvSpPr/>
          <p:nvPr/>
        </p:nvSpPr>
        <p:spPr>
          <a:xfrm>
            <a:off x="61200" y="11048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1042"/>
          <p:cNvSpPr/>
          <p:nvPr/>
        </p:nvSpPr>
        <p:spPr>
          <a:xfrm>
            <a:off x="264600" y="4267080"/>
            <a:ext cx="16725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3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1043"/>
          <p:cNvSpPr/>
          <p:nvPr/>
        </p:nvSpPr>
        <p:spPr>
          <a:xfrm>
            <a:off x="1981080" y="4267080"/>
            <a:ext cx="5029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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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1045"/>
          <p:cNvSpPr/>
          <p:nvPr/>
        </p:nvSpPr>
        <p:spPr>
          <a:xfrm>
            <a:off x="426240" y="4946760"/>
            <a:ext cx="29635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1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1046"/>
          <p:cNvSpPr/>
          <p:nvPr/>
        </p:nvSpPr>
        <p:spPr>
          <a:xfrm>
            <a:off x="2057400" y="56674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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1047"/>
          <p:cNvSpPr/>
          <p:nvPr/>
        </p:nvSpPr>
        <p:spPr>
          <a:xfrm>
            <a:off x="2743200" y="5654520"/>
            <a:ext cx="20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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048"/>
          <p:cNvSpPr/>
          <p:nvPr/>
        </p:nvSpPr>
        <p:spPr>
          <a:xfrm>
            <a:off x="2877120" y="5715000"/>
            <a:ext cx="206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049"/>
          <p:cNvSpPr/>
          <p:nvPr/>
        </p:nvSpPr>
        <p:spPr>
          <a:xfrm>
            <a:off x="438840" y="583236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itt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050"/>
          <p:cNvSpPr/>
          <p:nvPr/>
        </p:nvSpPr>
        <p:spPr>
          <a:xfrm>
            <a:off x="5347080" y="5715000"/>
            <a:ext cx="2896560" cy="642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uss practical aspe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ellipse n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 Phase spac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051"/>
          <p:cNvSpPr/>
          <p:nvPr/>
        </p:nvSpPr>
        <p:spPr>
          <a:xfrm>
            <a:off x="58672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052"/>
          <p:cNvSpPr/>
          <p:nvPr/>
        </p:nvSpPr>
        <p:spPr>
          <a:xfrm>
            <a:off x="685800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276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aylor expansio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27" name="Picture 1027" descr="Tailor_matrix_a"/>
          <p:cNvPicPr/>
          <p:nvPr/>
        </p:nvPicPr>
        <p:blipFill>
          <a:blip r:embed="rId1"/>
          <a:stretch/>
        </p:blipFill>
        <p:spPr>
          <a:xfrm>
            <a:off x="0" y="0"/>
            <a:ext cx="5413320" cy="31370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28" descr="Backup_of_Tailor_matrix_b"/>
          <p:cNvPicPr/>
          <p:nvPr/>
        </p:nvPicPr>
        <p:blipFill>
          <a:blip r:embed="rId2"/>
          <a:stretch/>
        </p:blipFill>
        <p:spPr>
          <a:xfrm>
            <a:off x="4343400" y="3828960"/>
            <a:ext cx="4800600" cy="302904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029"/>
          <p:cNvSpPr/>
          <p:nvPr/>
        </p:nvSpPr>
        <p:spPr>
          <a:xfrm>
            <a:off x="4524480" y="3276720"/>
            <a:ext cx="44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ar (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der)TRANSPORT Matrix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031"/>
          <p:cNvSpPr/>
          <p:nvPr/>
        </p:nvSpPr>
        <p:spPr>
          <a:xfrm>
            <a:off x="4479840" y="436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ypoUpright BT"/>
                <a:ea typeface="MS Gothic"/>
              </a:rPr>
              <a:t>,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1032"/>
          <p:cNvSpPr/>
          <p:nvPr/>
        </p:nvSpPr>
        <p:spPr>
          <a:xfrm>
            <a:off x="5410080" y="762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: Several notations are in use for 6 dim. ray vector &amp; matrix elemen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1030"/>
          <p:cNvSpPr/>
          <p:nvPr/>
        </p:nvSpPr>
        <p:spPr>
          <a:xfrm>
            <a:off x="22320" y="3962520"/>
            <a:ext cx="428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ark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dplane symmetry of magn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son for many matrix element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ar approx. for “well” design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gnets and paraxial bea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code calculates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including 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lements explicit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formalism is not sui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alculate higher order ( &gt;2 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1033"/>
          <p:cNvSpPr/>
          <p:nvPr/>
        </p:nvSpPr>
        <p:spPr>
          <a:xfrm>
            <a:off x="6325560" y="1905120"/>
            <a:ext cx="265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ANSPORT    RAYTR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1034"/>
          <p:cNvSpPr/>
          <p:nvPr/>
        </p:nvSpPr>
        <p:spPr>
          <a:xfrm>
            <a:off x="6789960" y="1523880"/>
            <a:ext cx="18694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Times New Roman"/>
              </a:rPr>
              <a:t>n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=      (n|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1035"/>
          <p:cNvSpPr/>
          <p:nvPr/>
        </p:nvSpPr>
        <p:spPr>
          <a:xfrm>
            <a:off x="45720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23920" y="304920"/>
            <a:ext cx="403884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olving the equations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of Motio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Picture 6" descr="Beam_parametrization_e"/>
          <p:cNvPicPr/>
          <p:nvPr/>
        </p:nvPicPr>
        <p:blipFill>
          <a:blip r:embed="rId1"/>
          <a:stretch/>
        </p:blipFill>
        <p:spPr>
          <a:xfrm>
            <a:off x="152280" y="685800"/>
            <a:ext cx="31006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7"/>
          <p:cNvSpPr/>
          <p:nvPr/>
        </p:nvSpPr>
        <p:spPr>
          <a:xfrm>
            <a:off x="304920" y="2438280"/>
            <a:ext cx="5105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thods of solving the equation of mo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) Determine the TRANSPORT matri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) Code RAYTRACE slices the system in small sections along the z-axis and integrates numerically the particle ray through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) Code COSY Infinity uses Differential Algebraic techniques to arbitrary orders using matrix representation for fast calcul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3429000" y="1143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52320" y="1519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iscussion of Diagnostic Element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228600" y="914400"/>
            <a:ext cx="630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problem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ange  &lt; 1  to  &gt;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12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icles/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ference with beam, notably at low ener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t can be very hig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gnal may not represent beam properties (e.g. blind viewer spo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281520" y="3124080"/>
            <a:ext cx="5931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solu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ewers, scintillators, quartz with CCD read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lits (movable) Faraday cups (current readou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rps, electronic readout, semi- transpar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lm (permanent record, dosimetry, e.g. in Proton Therap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re chambers (Spectrome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int beam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3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yclotrons: MSU, RCNP, iThemb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638320" y="151920"/>
            <a:ext cx="3505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iagnostics in focal plane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f spectrometer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8" name="Picture 3" descr="K600_focus"/>
          <p:cNvPicPr/>
          <p:nvPr/>
        </p:nvPicPr>
        <p:blipFill>
          <a:blip r:embed="rId1"/>
          <a:stretch/>
        </p:blipFill>
        <p:spPr>
          <a:xfrm>
            <a:off x="0" y="0"/>
            <a:ext cx="538632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4"/>
          <p:cNvSpPr/>
          <p:nvPr/>
        </p:nvSpPr>
        <p:spPr>
          <a:xfrm>
            <a:off x="5943600" y="1371600"/>
            <a:ext cx="2819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ypical in focal plane of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dern Spectromet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wo position sensitiv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tector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rizontal:  X1,  X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rtical:      Y1,  Y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st plastic scintilla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icle identif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ime-of-F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5560200" y="5105520"/>
            <a:ext cx="32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asurement with IUCF K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pectrometer illustrates from t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 bottom: focus near, dow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ream and upstream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1 detector, respective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2976840" y="380880"/>
            <a:ext cx="232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UCF, K600 Spectrome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971800" y="151920"/>
            <a:ext cx="60199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Higher order beam aberration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54" name="Picture 3" descr="K600_higher_order"/>
          <p:cNvPicPr/>
          <p:nvPr/>
        </p:nvPicPr>
        <p:blipFill>
          <a:blip r:embed="rId1"/>
          <a:stretch/>
        </p:blipFill>
        <p:spPr>
          <a:xfrm>
            <a:off x="0" y="1689120"/>
            <a:ext cx="6138720" cy="5168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Oct_aberr"/>
          <p:cNvPicPr/>
          <p:nvPr/>
        </p:nvPicPr>
        <p:blipFill>
          <a:blip r:embed="rId2"/>
          <a:stretch/>
        </p:blipFill>
        <p:spPr>
          <a:xfrm>
            <a:off x="6172200" y="1676520"/>
            <a:ext cx="2816280" cy="11919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5"/>
          <p:cNvSpPr/>
          <p:nvPr/>
        </p:nvSpPr>
        <p:spPr>
          <a:xfrm>
            <a:off x="6172920" y="289548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ctor X1      X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6404040" y="114300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rays in focal pl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6249960" y="1752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6174000" y="2133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3659400" y="4038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2897280" y="4572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3735360" y="5105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1527840" y="83808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Octup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-shape in x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l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6248520" y="5334120"/>
            <a:ext cx="220968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Exampl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xtupole T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Arial"/>
              </a:rPr>
              <a:t>12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-shape in x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l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15"/>
          <p:cNvSpPr/>
          <p:nvPr/>
        </p:nvSpPr>
        <p:spPr>
          <a:xfrm>
            <a:off x="6249960" y="2514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3505320" y="3733920"/>
            <a:ext cx="701640" cy="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12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2133720" y="3809880"/>
            <a:ext cx="685800" cy="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2520" y="228600"/>
            <a:ext cx="3962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Text Box 1027"/>
          <p:cNvSpPr/>
          <p:nvPr/>
        </p:nvSpPr>
        <p:spPr>
          <a:xfrm>
            <a:off x="228600" y="3962520"/>
            <a:ext cx="736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e charged particles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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like p,d,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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am lines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etic &amp; electric analysis/ separation (e.g. St. Geor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leration of ion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95680" y="228240"/>
            <a:ext cx="4648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Who needs ion-optics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nyway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43280" y="3276720"/>
            <a:ext cx="72687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er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6*10</a:t>
            </a:r>
            <a:r>
              <a:rPr b="1" lang="en-US" sz="2000" spc="-1" strike="noStrike" baseline="30000">
                <a:solidFill>
                  <a:srgbClr val="00ff00"/>
                </a:solidFill>
                <a:latin typeface="Times New Roman"/>
              </a:rPr>
              <a:t>9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peopl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ave  - I hope so - happy lives withou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group of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ccelerator physicis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re using it to build mach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at enables physicists to explore the unkow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Many physicis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using accelerators, beam lines and magnet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or their data) needs some knowledge of ion-optic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s lecture series is an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ntrod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the last group and I will d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y best to let you in on the basics first and than we will discu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me of the applications of ion-optics and related topic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ntroductory remark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52280" y="533520"/>
            <a:ext cx="8839440" cy="31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roduction for physicist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cus on ion-optical definitions, and tools th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 useful for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physicis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t the NSL &amp; future users of St. George recoil separat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ght optics can hardly be discussed without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lenses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amp; optical instrumen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on-optics requires knowledge of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on-optical elemen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nalog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between Light Optics and Ion-Optics is useful but limi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on-optical &amp; magnet desig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ools needed to understand electro-magnet systems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Ion-optics is not even 100 years old and (still) less intuitive than optics develop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ce several hundred ye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76320" y="4419720"/>
          <a:ext cx="3657600" cy="23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419720"/>
                    <a:ext cx="365760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6915240" y="3733920"/>
            <a:ext cx="2228760" cy="3124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3654720" y="4800600"/>
            <a:ext cx="337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alil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lescope 1609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cs in Siderus Nuncius 16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45440" y="3886200"/>
            <a:ext cx="65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Historical remarks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Rutherford, 1911, discovery of atomic nucle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ic tools of the trad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04920" y="1066680"/>
            <a:ext cx="855000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ometry, drawing tools, CAD drafting program (e.g. AutoC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ear Algebra (Matrix calculations), first order ion-optics (e.g. TRANSPO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er order ion-optics code to solve equation of motion, (e.g. COSY Infinity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IOS, RAYTRACE (histori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ctro-magnetic field program (solution of  Maxwell’s Equations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e.g. finite element (FE) codes, 2d &amp; 3d: POISSON, TOSCA, MagNe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perties of incoming charged particles and design function of electro-magne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ility, beam, reaction products (e.g. kinematic codes, charge distributions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vy ions, energy losses in target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 other specialized programs, e.g for accelerator design (e.g. synchrotron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yclotrons) not covered in this lecure seri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Literature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Text Box 1027"/>
          <p:cNvSpPr/>
          <p:nvPr/>
        </p:nvSpPr>
        <p:spPr>
          <a:xfrm>
            <a:off x="293400" y="1066680"/>
            <a:ext cx="8640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tics of Charged Particles, Hermann Wollnik, Academic Press, Orlando, 1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Optics of Charged Particle Beams, David.C Carey, Harwood Academ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shers, New York 1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elerator Physics, S.Y. Lee, World Scientific Publishing, Singapore, 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ORT, A Computer Program for Designing Charged Particle Be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ort Systems, K.L. Brown, D.C. Carey, Ch. Iselin, F. Rotacker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port CERN 80-04, Geneva, 19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r-Aided Design in Magnetics, D.A. Lowther, P. Silvester, Springer 198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s in static or quasi-static electro-magnetic field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380880" y="1143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rentz Fo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Object 1024"/>
          <p:cNvGraphicFramePr/>
          <p:nvPr/>
        </p:nvGraphicFramePr>
        <p:xfrm>
          <a:off x="2286000" y="990720"/>
          <a:ext cx="3174840" cy="9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024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2286000" y="990720"/>
                    <a:ext cx="317484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6"/>
          <p:cNvSpPr/>
          <p:nvPr/>
        </p:nvSpPr>
        <p:spPr>
          <a:xfrm>
            <a:off x="6553080" y="838080"/>
            <a:ext cx="2438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= electric char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gn. in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electric 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velo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85800" y="2666880"/>
            <a:ext cx="7486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mentum analy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magnetic force is preferred because the force is always perpendicular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refore v, p and E are consta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707040" y="3352680"/>
            <a:ext cx="53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 in magnetic dipo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cons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q B </a:t>
            </a:r>
            <a:r>
              <a:rPr b="0" lang="en-US" sz="2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6400800" y="3352680"/>
            <a:ext cx="2421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 mv = moment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UniversalMath1 BT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ending radiu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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magn. rigid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4708440" y="3627360"/>
            <a:ext cx="115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89400" y="2209680"/>
            <a:ext cx="48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leration elect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ces are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1447920" y="48769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pole field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pendicu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paper pla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3276720" y="5257800"/>
            <a:ext cx="96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us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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389520" y="6324480"/>
            <a:ext cx="1544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(siz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Group 24"/>
          <p:cNvGrpSpPr/>
          <p:nvPr/>
        </p:nvGrpSpPr>
        <p:grpSpPr>
          <a:xfrm>
            <a:off x="-609480" y="2706840"/>
            <a:ext cx="7543800" cy="4151160"/>
            <a:chOff x="-609480" y="2706840"/>
            <a:chExt cx="7543800" cy="4151160"/>
          </a:xfrm>
        </p:grpSpPr>
        <p:pic>
          <p:nvPicPr>
            <p:cNvPr id="141" name="Picture 22" descr="B_rho_concept"/>
            <p:cNvPicPr/>
            <p:nvPr/>
          </p:nvPicPr>
          <p:blipFill>
            <a:blip r:embed="rId3"/>
            <a:stretch/>
          </p:blipFill>
          <p:spPr>
            <a:xfrm>
              <a:off x="-609480" y="2706840"/>
              <a:ext cx="754380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6"/>
            <p:cNvSpPr/>
            <p:nvPr/>
          </p:nvSpPr>
          <p:spPr>
            <a:xfrm>
              <a:off x="746280" y="5165640"/>
              <a:ext cx="549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UniversalMath1 BT"/>
                  <a:ea typeface="UniversalMath1 BT"/>
                </a:rPr>
                <a:t></a:t>
              </a: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Text Box 17"/>
          <p:cNvSpPr/>
          <p:nvPr/>
        </p:nvSpPr>
        <p:spPr>
          <a:xfrm>
            <a:off x="6172920" y="4419720"/>
            <a:ext cx="2655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ru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ing of magnetic sy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linear region resul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ion-op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4576680" y="5638680"/>
            <a:ext cx="2693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er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/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netic analys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Spectrometers, mag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or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5259240" y="4876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4726440" y="52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4588200" y="43434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</a:t>
            </a:r>
            <a:r>
              <a:rPr b="0" lang="en-US" sz="1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715000" y="1182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Нижний колонтитул 2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tion of BEAM for mathematical formulation of ion-optic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83040" y="91440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beam, what shapes it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we know its properties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80880" y="2133720"/>
            <a:ext cx="40388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parameters, the long li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rays and distrib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line elements, paraxial lin. approx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 orders in spectrome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stem of diagnostic instr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6" descr="beam_parametrization_c"/>
          <p:cNvPicPr/>
          <p:nvPr/>
        </p:nvPicPr>
        <p:blipFill>
          <a:blip r:embed="rId1"/>
          <a:stretch/>
        </p:blipFill>
        <p:spPr>
          <a:xfrm>
            <a:off x="304920" y="4038480"/>
            <a:ext cx="4190760" cy="1281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4"/>
          <p:cNvSpPr/>
          <p:nvPr/>
        </p:nvSpPr>
        <p:spPr>
          <a:xfrm>
            <a:off x="379080" y="5791320"/>
            <a:ext cx="46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to forget: Atomic charge Q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of particles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5:12:40Z</dcterms:created>
  <dc:creator>Stefan G. Berg</dc:creator>
  <dc:description/>
  <dc:language>en-US</dc:language>
  <cp:lastModifiedBy>LEGION</cp:lastModifiedBy>
  <dcterms:modified xsi:type="dcterms:W3CDTF">2018-03-12T09:16:38Z</dcterms:modified>
  <cp:revision>100</cp:revision>
  <dc:subject/>
  <dc:title>Ion-Optics</dc:title>
</cp:coreProperties>
</file>